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9D7-FCD4-418A-B67E-9C8E0E25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863-DD1D-4BBB-83B5-83259321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2C5-BCE5-4714-854B-285EB98C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423-F78A-4111-870C-3993C710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0A9-EAC8-4DE0-8E59-53E14B87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46F-337B-40C9-9F8A-4E442F73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2DE-AA6F-4395-B943-64D0217F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79C-9128-4A2A-AFD1-AE73244C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B66-0E18-4779-961C-7418A600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76A-8EEC-4FC5-9BA7-18C058CA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479-3378-4D67-864E-9E1C268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249-27DC-487A-85CC-09AFFBAC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C3BD-AE56-41D5-9ABE-02BB4A14EC1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riteexpress.com/narrative-essay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sayinfo.com/essays/narrative_essay.php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ve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58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 Embarrassing Accid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k? Background information? Thesis stat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writer’s embarrassing inci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the writer lear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lining your narrative essay based on your brainstorming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pic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rite about an experience of learning something new. What problems did you encounter? How did you overcome them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pic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ink about an event in your life that seemed bad but turned out to be good. What makes the event change from bad to good? What did you lea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did the story happen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Verb Tense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ast Continuou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set the scen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is used for an action that continues for some time and is usually paired with an action in the simple past. It is often used with "as", "while", and "when".</a:t>
            </a:r>
            <a:r>
              <a:rPr b="0" lang="zh-TW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ertain stative verbs are NOT used with past continuous. e.g.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seem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appear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was/we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beca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imple Pa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ast Perfect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describe something that happened before another thing in the past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is sometimes used for reported speech after verbs such as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tel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repor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recou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Narrative Ess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arrative essay is a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sto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arrative essay is a piece of writing that recreates an experience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through ti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arrative essay can be based on one of your own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experi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either past or present, or it can be based on the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experi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omeone el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addition to telling a story, a narrative essay also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communicates a main idea or a lesson learn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字方塊 3"/>
          <p:cNvSpPr/>
          <p:nvPr/>
        </p:nvSpPr>
        <p:spPr>
          <a:xfrm>
            <a:off x="3786120" y="59292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writeexpress.com/narrative-essay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55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reaking Ground to Be a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mmy Carter, 1977-198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56) Exercise 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://www.heavener.k12.ok.us/high_school/teachers/christithompson/student%20research/Web%20Page/3b52090r.jpg"/>
          <p:cNvPicPr/>
          <p:nvPr/>
        </p:nvPicPr>
        <p:blipFill>
          <a:blip r:embed="rId2"/>
          <a:stretch/>
        </p:blipFill>
        <p:spPr>
          <a:xfrm>
            <a:off x="5572080" y="2286000"/>
            <a:ext cx="30463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rratives are generally written in the first person, that is, using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However, third person 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can also be us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rratives rely on concrete, sensory details to convey their point. These details should create a unified, forceful effect, a dominant impress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rratives, as stories, should include these story conventions: a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pl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including setting and characters; a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clima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; and an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end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字方塊 3"/>
          <p:cNvSpPr/>
          <p:nvPr/>
        </p:nvSpPr>
        <p:spPr>
          <a:xfrm>
            <a:off x="3571920" y="607212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ssayinfo.com/essays/narrative_essay.ph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.58 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n Embarrassing Incident.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ckground information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was the writer’s embarrassing incid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id the writer learn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writing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xperience that you want to write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why the experience worth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nd time drafting your recollections about the details of the experi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outline of the basic parts of your narr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ve To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ormative exper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n experience that shape how we see the world and what type of person we become later in lif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you show your personality and characteristic in the story/experi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ing what you “learned” is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nterview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one of the following topics. Write a three-to-four-paragraph narrative essay (200-250 words). Remember to give a specific title for your ess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pic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rite about an experience of learning something new. What problems did you encounter? How did you overcome them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pic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ink about an event in your life that seemed bad but turned out to be good. What makes the event change from bad to good? What did you lea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hetorical Focu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.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892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Introduct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to engages the reader’s intere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hoo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iddle sentences to provide background information (people, place, tim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is statement to prepare readers for the following actio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Bod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to give details about the main event/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describe what happened by time order, including details that bring the story to lif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Conclus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to describe the outcome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omment about what the event showed or taugh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52:51Z</dcterms:created>
  <dc:creator>Windows 使用者</dc:creator>
  <dc:description/>
  <dc:language>en-US</dc:language>
  <cp:lastModifiedBy>teacher</cp:lastModifiedBy>
  <dcterms:modified xsi:type="dcterms:W3CDTF">2009-04-06T07:06:53Z</dcterms:modified>
  <cp:revision>31</cp:revision>
  <dc:subject/>
  <dc:title>Unit 3 Narrative Essay</dc:title>
</cp:coreProperties>
</file>